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DCAF6-BF4D-451C-8E51-35BC2EAC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51EE6-DE9F-48DE-B511-AD362727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F859-CB47-4DF1-9B74-454BD0CF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2EA17-1608-4E50-AFE4-7BF723B5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3BFB-E4CD-49E9-AE29-3DBA81B5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EF75-EAE9-4B60-9CAD-6F1C668B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86C5-0539-4EF2-8389-EFA141B1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2C98-0105-4B10-9BD9-85C69E8E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4D6F-F45A-4D00-8A04-648092AD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F7F0-96C0-405D-AEDA-9E0809E6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F10C-2009-496B-97DC-D0636A60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E69EB-73C5-4C3E-B043-28F2DE7A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BF3D-58EE-4E34-B22E-F6BF21CF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74D1-20C8-4FF0-848A-987A2EAC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85F2-F2A3-4F7B-890D-E7B7041C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9272-AED8-422A-9ADB-920E6ACC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0859-B2BE-47AF-9D73-AF731FD8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B9742-179D-41E6-96D3-5E13A3E2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4C0F9-245C-4733-A7D6-EC1D5F13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B77D4-266C-4C46-A00C-B5844272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EB35-3FEB-4A5F-8222-7D8929C1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EBA31-5236-4D58-B15D-F2704175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BC612-FECF-4A2B-9695-B3B18F8B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30E52-82FF-46CB-9DF6-ECA6C8F6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AA51-B08B-4519-9EBB-32EF10B80E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404C-0DA5-4BF5-9132-4988D0EFAD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cade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152280"/>
            <a:ext cx="91440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66"/>
                  </a:solidFill>
                  <a:miter/>
                </a:ln>
                <a:solidFill>
                  <a:srgbClr val="ff0066">
                    <a:alpha val="90000"/>
                  </a:srgbClr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atorade</a:t>
            </a:r>
            <a:endParaRPr b="0" lang="en-US" sz="1800" spc="1" strike="noStrike">
              <a:ln w="25560">
                <a:solidFill>
                  <a:srgbClr val="ff0066"/>
                </a:solidFill>
                <a:miter/>
              </a:ln>
              <a:solidFill>
                <a:srgbClr val="ff0066">
                  <a:alpha val="90000"/>
                </a:srgbClr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5029200"/>
            <a:ext cx="228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Autum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September 27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Period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Computer #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791320"/>
            <a:ext cx="670572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usic: 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Funky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, 10/4/2010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3434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45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vention: Gatora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atorade was invented in 1965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inventor, Robert James Cade, named the drink gatorade after the team he invented it for, the Gators, and his last name, Cad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de and his team of doctors also invented over 15 other kinds gatorade flavors and energy chewing gu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radition of pouring gatorade over your head originally started with the New York Giants in 1987 after they won the super bow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2001, gatorade was well on it’s way to worldwide sales in the bill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00"/>
            </a:gs>
            <a:gs pos="50000">
              <a:srgbClr val="ff0066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ventor: Robert James Ca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bert James Cade was born in San Antonio, Texas on September 16, 1927 and died in Gainsville, Florida on November 27, 2007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de was the leader of the research team that invented gatorad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high school Cade ran the mile in four minutes, 20 seconds and loved spor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 married Mary Strausberger, a nurse in Dallas, Tex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 got his doctor of medicine degree and bachelor of science degree after graduating from the University of Florid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cc"/>
            </a:gs>
            <a:gs pos="100000">
              <a:srgbClr val="99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Cade"/>
          <p:cNvPicPr/>
          <p:nvPr/>
        </p:nvPicPr>
        <p:blipFill>
          <a:blip r:embed="rId1"/>
          <a:stretch/>
        </p:blipFill>
        <p:spPr>
          <a:xfrm>
            <a:off x="304920" y="380880"/>
            <a:ext cx="7238880" cy="2971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Cade"/>
          <p:cNvPicPr/>
          <p:nvPr/>
        </p:nvPicPr>
        <p:blipFill>
          <a:blip r:embed="rId2"/>
          <a:srcRect l="0" t="0" r="61186" b="0"/>
          <a:stretch/>
        </p:blipFill>
        <p:spPr>
          <a:xfrm>
            <a:off x="6095880" y="3581280"/>
            <a:ext cx="2819520" cy="2057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5638680"/>
            <a:ext cx="8381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melson-MIT Program, 9-29-10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eb.mit.edu/invent/iow/cade.html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to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12Z</dcterms:created>
  <dc:creator>install</dc:creator>
  <dc:description/>
  <dc:language>en-US</dc:language>
  <cp:lastModifiedBy>install</cp:lastModifiedBy>
  <dcterms:modified xsi:type="dcterms:W3CDTF">2010-10-13T18:09:15Z</dcterms:modified>
  <cp:revision>15</cp:revision>
  <dc:subject/>
  <dc:title>Slide 1</dc:title>
</cp:coreProperties>
</file>